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B8FDE-CBB2-4B4F-8249-F4A7C48B4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9938-8596-4DB5-9124-60DAA869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4C0E0-9493-4951-A500-9976F23EF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E4C0-F570-414F-9785-2309FB2D1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301C-779E-43EA-BC58-F66BB6BBF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2554B-E0F5-4BA5-8A78-1BBE19E8E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8E0F-57E1-4F89-8407-CA86321F2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F0B2B-BC49-42EA-A003-C6D0F86F7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F640-FF94-4E60-AE03-4C55AAFDB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152D-7BEA-42CA-91A2-C5F9466D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D194-9A3B-4AAF-AB3B-F1426AB3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F02E-24A2-43F0-A75E-BF2D85D67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90D9-0C1E-47E3-9F80-F7A52136C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124080" y="2133720"/>
            <a:ext cx="2971800" cy="1295280"/>
          </a:xfrm>
          <a:prstGeom prst="bevel">
            <a:avLst>
              <a:gd name="adj" fmla="val 12500"/>
            </a:avLst>
          </a:prstGeom>
          <a:solidFill>
            <a:srgbClr val="00ffff">
              <a:alpha val="50000"/>
            </a:srgbClr>
          </a:solidFill>
          <a:ln w="9360">
            <a:solidFill>
              <a:srgbClr val="000000"/>
            </a:solidFill>
            <a:prstDash val="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ثالث</a:t>
            </a:r>
            <a:endParaRPr b="0" lang="en-US" sz="4400" spc="-1" strike="noStrike">
              <a:solidFill>
                <a:srgbClr val="000000"/>
              </a:solidFill>
              <a:latin typeface="Times New Roman"/>
            </a:endParaRPr>
          </a:p>
        </p:txBody>
      </p:sp>
      <p:sp>
        <p:nvSpPr>
          <p:cNvPr id="42" name=""/>
          <p:cNvSpPr/>
          <p:nvPr/>
        </p:nvSpPr>
        <p:spPr>
          <a:xfrm>
            <a:off x="1981080" y="4191120"/>
            <a:ext cx="4800600" cy="1371600"/>
          </a:xfrm>
          <a:prstGeom prst="flowChartPreparation">
            <a:avLst/>
          </a:prstGeom>
          <a:solidFill>
            <a:srgbClr val="00ffff">
              <a:alpha val="50000"/>
            </a:srgbClr>
          </a:solidFill>
          <a:ln cap="rnd" w="57240">
            <a:solidFill>
              <a:srgbClr val="000000"/>
            </a:solidFill>
            <a:custDash>
              <a:ds d="100000" sp="1000"/>
            </a:cust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رة الرعد الآيات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15</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ه معقبات،خوفاً وطعماً،وهو شديد المحال،الغدو والآصا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أكمل العبارات الآتية: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لإنسان ملائكة موكلة.............كما أن هناك ملائكة تقوم بكتابة..........كما جاء في الحديث الصحيح:((يتعاقبون فيكم ملائكة بالليل وملائكة بالنهار ويتجمعون في.............))الحديث.</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إذا علم الإنسان أن هناك ملائكة تحصي عليه أعماله؟</a:t>
            </a:r>
            <a:endParaRPr b="0" lang="en-US" sz="32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في قوله تعالى</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وَالَّذِينَ يَدْعُونَ مِنْ دُونِهِ لَا يَسْتَجِيبُونَ لَهُمْ بِشَيْءٍ إِلَّا كَبَاسِطِ كَفَّيْهِ </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2800" spc="-1" strike="noStrike">
                <a:solidFill>
                  <a:srgbClr val="000000"/>
                </a:solidFill>
                <a:latin typeface="Times New Roman"/>
              </a:rPr>
              <a:t>ما المشبه،والمشبه به،ووجه الشبه في ا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a:t>
            </a:r>
            <a:r>
              <a:rPr b="0" lang="ar-SA" sz="2800" spc="-1" strike="noStrike">
                <a:solidFill>
                  <a:srgbClr val="000000"/>
                </a:solidFill>
                <a:latin typeface="Times New Roman"/>
              </a:rPr>
              <a:t>5</a:t>
            </a:r>
            <a:r>
              <a:rPr b="0" lang="ar-SA" sz="2800" spc="-1" strike="noStrike">
                <a:solidFill>
                  <a:srgbClr val="000000"/>
                </a:solidFill>
                <a:latin typeface="Times New Roman"/>
              </a:rPr>
              <a:t>:ما الآثار التي تتركها الذنوب،والمعاصي على الناس؟</a:t>
            </a:r>
            <a:endParaRPr b="0" lang="en-US" sz="2800" spc="-1" strike="noStrike">
              <a:solidFill>
                <a:srgbClr val="000000"/>
              </a:solidFill>
              <a:latin typeface="Times New Roman"/>
            </a:endParaRPr>
          </a:p>
        </p:txBody>
      </p:sp>
      <p:sp>
        <p:nvSpPr>
          <p:cNvPr id="55" name=""/>
          <p:cNvSpPr/>
          <p:nvPr/>
        </p:nvSpPr>
        <p:spPr>
          <a:xfrm>
            <a:off x="6095880" y="0"/>
            <a:ext cx="2819520" cy="609480"/>
          </a:xfrm>
          <a:prstGeom prst="flowChartDocument">
            <a:avLst/>
          </a:prstGeom>
          <a:solidFill>
            <a:srgbClr val="00ffff">
              <a:alpha val="50000"/>
            </a:srgbClr>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1295280"/>
            <a:ext cx="9144000" cy="60962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لَهُ مُعَقِّبَاتٌ مِنْ بَيْنِ يَدَيْهِ وَمِنْ خَلْفِهِ يَحْفَظُونَهُ مِنْ أَمْرِ اللَّهِ إِنَّ اللَّهَ لَا يُغَيِّرُ مَا بِقَوْمٍ حَتَّى يُغَيِّرُوا مَا بِأَنْفُسِهِمْ وَإِذَا أَرَادَ اللَّهُ بِقَوْمٍ سُوءًا فَلَا مَرَدَّ لَهُ وَمَا لَهُمْ مِنْ دُونِهِ مِنْ وَالٍ      (</a:t>
            </a:r>
            <a:r>
              <a:rPr b="0" lang="ar-SA" sz="3200" spc="-1" strike="noStrike">
                <a:solidFill>
                  <a:srgbClr val="000000"/>
                </a:solidFill>
                <a:latin typeface="Times New Roman"/>
                <a:ea typeface="Traditional Arabic"/>
              </a:rPr>
              <a:t>11</a:t>
            </a:r>
            <a:r>
              <a:rPr b="0" lang="ar-SA" sz="3200" spc="-1" strike="noStrike">
                <a:solidFill>
                  <a:srgbClr val="000000"/>
                </a:solidFill>
                <a:latin typeface="Times New Roman"/>
                <a:ea typeface="Traditional Arabic"/>
              </a:rPr>
              <a:t>) هُوَ الَّذِي يُرِيكُمُ الْبَرْقَ خَوْفًا وَطَمَعًا وَيُنْشِئُ السَّحَابَ الثِّقَالَ (</a:t>
            </a:r>
            <a:r>
              <a:rPr b="0" lang="ar-SA" sz="3200" spc="-1" strike="noStrike">
                <a:solidFill>
                  <a:srgbClr val="000000"/>
                </a:solidFill>
                <a:latin typeface="Times New Roman"/>
                <a:ea typeface="Traditional Arabic"/>
              </a:rPr>
              <a:t>12</a:t>
            </a:r>
            <a:r>
              <a:rPr b="0" lang="ar-SA" sz="3200" spc="-1" strike="noStrike">
                <a:solidFill>
                  <a:srgbClr val="000000"/>
                </a:solidFill>
                <a:latin typeface="Times New Roman"/>
                <a:ea typeface="Traditional Arabic"/>
              </a:rPr>
              <a:t>) وَيُسَبِّحُ الرَّعْدُ بِحَمْدِهِ وَالْمَلَائِكَةُ مِنْ خِيفَتِهِ وَيُرْسِلُ الصَّوَاعِقَ فَيُصِيبُ بِهَا مَنْ يَشَاءُ وَهُمْ يُجَادِلُونَ فِي اللَّهِ وَهُوَ شَدِيدُ الْمِحَالِ (</a:t>
            </a:r>
            <a:r>
              <a:rPr b="0" lang="ar-SA" sz="3200" spc="-1" strike="noStrike">
                <a:solidFill>
                  <a:srgbClr val="000000"/>
                </a:solidFill>
                <a:latin typeface="Times New Roman"/>
                <a:ea typeface="Traditional Arabic"/>
              </a:rPr>
              <a:t>13</a:t>
            </a:r>
            <a:r>
              <a:rPr b="0" lang="ar-SA" sz="3200" spc="-1" strike="noStrike">
                <a:solidFill>
                  <a:srgbClr val="000000"/>
                </a:solidFill>
                <a:latin typeface="Times New Roman"/>
                <a:ea typeface="Traditional Arabic"/>
              </a:rPr>
              <a:t>) لَهُ دَعْوَةُ الْحَقِّ وَالَّذِينَ يَدْعُونَ مِنْ دُونِهِ لَا يَسْتَجِيبُونَ لَهُمْ بِشَيْءٍ إِلَّا كَبَاسِطِ كَفَّيْهِ إِلَى الْمَاءِ لِيَبْلُغَ فَاهُ وَمَا هُوَ بِبَالِغِهِ وَمَا دُعَاءُ الْكَافِرِينَ إِلَّا فِي ضَلَالٍ (</a:t>
            </a: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وَلِلَّهِ يَسْجُدُ مَنْ فِي السَّمَوَاتِ وَالْأَرْضِ طَوْعًا وَكَرْهًا وَظِلَالُهُمْ بِالْغُدُوِّ وَالْآَصَالِ (</a:t>
            </a:r>
            <a:r>
              <a:rPr b="0" lang="ar-SA" sz="3200" spc="-1" strike="noStrike">
                <a:solidFill>
                  <a:srgbClr val="000000"/>
                </a:solidFill>
                <a:latin typeface="Times New Roman"/>
                <a:ea typeface="Traditional Arabic"/>
              </a:rPr>
              <a:t>15</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6934320" y="152280"/>
            <a:ext cx="1981080" cy="914400"/>
          </a:xfrm>
          <a:prstGeom prst="roundRect">
            <a:avLst>
              <a:gd name="adj" fmla="val 16667"/>
            </a:avLst>
          </a:prstGeom>
          <a:solidFill>
            <a:srgbClr val="00ffff">
              <a:alpha val="50000"/>
            </a:srgbClr>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ال الله 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343040" y="-360"/>
            <a:ext cx="4800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838080"/>
          <a:ext cx="8839440" cy="5791320"/>
        </p:xfrm>
        <a:graphic>
          <a:graphicData uri="http://schemas.openxmlformats.org/drawingml/2006/table">
            <a:tbl>
              <a:tblPr/>
              <a:tblGrid>
                <a:gridCol w="4419720"/>
                <a:gridCol w="44197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معن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كلم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3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له تعالى ملائكة يتعاقبون فيكم بالليل والنهار،فإذا صعدت ملائكة الليل جاء في عقبها ملائكة النهار،إذا صعدت ملائكة النهار جاء في عقبها ملائكة اللي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 بإذن الله تعالى ما لم  يجئ المقدور فإذا جاء المقدور خلوا عن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العافية والنعمة والإحسان ورغد العيش.</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أن ينتقلوا من الإيمان إلى الكفر،ومن الطاعة إلى المعصية أو من شكر نعم الله إلى البطر بها فيسلبهم الله إياها.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 معقبات</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ه من أمر ال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ن الله لا يغير ما بقو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يغيروا ما بأنفس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152280" y="152280"/>
          <a:ext cx="8839440" cy="6477120"/>
        </p:xfrm>
        <a:graphic>
          <a:graphicData uri="http://schemas.openxmlformats.org/drawingml/2006/table">
            <a:tbl>
              <a:tblPr/>
              <a:tblGrid>
                <a:gridCol w="4419720"/>
                <a:gridCol w="4419720"/>
              </a:tblGrid>
              <a:tr h="64803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عذاباً وشدة وأمراً يكرهونه فإن إرادته لابد أن تنفذ في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ولي يدفع عنهم العذاب والبلاء.</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خوفاً للمسافر يخاف منه الأذى والمشقة ,وطمعاً للمقيم يرجو منه البركة والمنفع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رعد: الصوت الذي يسمع من السحاب ,فهو خاضع لربه مسبح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تسبح الملائكة من خيفة الله عز وجل وخشي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شديد الحول والقو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له وحده دعوة الحق, وهي : عبادته وحده لا شريك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الأوثان والأنداد التي جعلوها شركاء لل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إذا أراد الله بقوم سوءاً فلا مردَّ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مالهم من دونه من و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هو الذي يريكم البرق خوفاً وطمع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يسبح الرعد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ملائكة من خيف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هو شديد المح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ه دعوة الحق</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ذين يدعون من دون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763120" cy="6497640"/>
        </p:xfrm>
        <a:graphic>
          <a:graphicData uri="http://schemas.openxmlformats.org/drawingml/2006/table">
            <a:tbl>
              <a:tblPr/>
              <a:tblGrid>
                <a:gridCol w="4381560"/>
                <a:gridCol w="4381560"/>
              </a:tblGrid>
              <a:tr h="821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دعاء , ولا يسمعون لهم ند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رجل العطشان يمد يده إلى البئر ليرتفع الماء إليه وما هو ببالغه , وهذا مثل ضربه الله ليأسهم من الإجابة لدعائ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عبادة الكافرين للأصنام إلا في خسران و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سجد الملائكة،ومن في الأرض من المؤمنين وسائر خلقه من الحيوانات والنباتات والجم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تذلل وانقياد لما يريده الله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سجد له ظلال المخلوقات أول النهار وآخره،وسجود كل شيء بحسب ح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بشي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كباسط كفّيه إلى الماء ليبلغ فاه وما هو ببالغ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دعاء الكافرين إلا في 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له يسجد من في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طوعاً وك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ظلالهم بالغدو والآصا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fontScale="90000"/>
          </a:bodyPr>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لإنسان ملائكة موكلة بحفظه وحراسته،كما أن هناك ملائكة تقوم بكتابة أعماله من خير أو شر،كما جاء في الحديث الصحيح : ((يتعاقبون فكيم ملائكة بالليل،وملائكة بالنهار،ويتجمعون في صلاة الصبح وصلاة العصر،فيصعد إليه الذين باتوا فيكم فيسألهم-وهو أعلم بهم- كيف تركتم عبادي؟ فيقولون :أتيناهم وهم يصلون،وتركناهم وهم يصلون))</a:t>
            </a:r>
            <a:endParaRPr b="0" lang="en-US" sz="3200" spc="-1" strike="noStrike">
              <a:solidFill>
                <a:srgbClr val="000000"/>
              </a:solidFill>
              <a:latin typeface="Times New Roman"/>
            </a:endParaRPr>
          </a:p>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لم الإنسان أن هناك ملائكة تحصي عليه أعماله كان إلى الحذر من المعاصي أقرب،فإذا حاول الإقدام على معصية وتذكر أنهم يشاهدونه،زجره الحياء منهم عن الإقدام عليها، كما يمنعه الحياء من فعل شيء مستقبح وهو بحضرة من يعظمه من البشر،وهو أيضاً إذا علم أن كل عمل له في كتاب مدخر يكون ذلك راعاً وداعياً إلى تركه.</a:t>
            </a:r>
            <a:endParaRPr b="0" lang="en-US" sz="3200" spc="-1" strike="noStrike">
              <a:solidFill>
                <a:srgbClr val="000000"/>
              </a:solidFill>
              <a:latin typeface="Times New Roman"/>
            </a:endParaRPr>
          </a:p>
        </p:txBody>
      </p:sp>
      <p:sp>
        <p:nvSpPr>
          <p:cNvPr id="50" name=""/>
          <p:cNvSpPr/>
          <p:nvPr/>
        </p:nvSpPr>
        <p:spPr>
          <a:xfrm>
            <a:off x="5105520" y="0"/>
            <a:ext cx="3809880" cy="609480"/>
          </a:xfrm>
          <a:custGeom>
            <a:avLst/>
            <a:gdLst>
              <a:gd name="textAreaLeft" fmla="*/ 71640 w 3809880"/>
              <a:gd name="textAreaRight" fmla="*/ 3738240 w 3809880"/>
              <a:gd name="textAreaTop" fmla="*/ 71640 h 609480"/>
              <a:gd name="textAreaBottom" fmla="*/ 537840 h 609480"/>
            </a:gdLst>
            <a:ahLst/>
            <a:rect l="textAreaLeft" t="textAreaTop" r="textAreaRight" b="textAreaBottom"/>
            <a:pathLst>
              <a:path w="134955" h="21600">
                <a:moveTo>
                  <a:pt x="3600" y="0"/>
                </a:moveTo>
                <a:arcTo wR="3600" hR="3600" stAng="0" swAng="5400000"/>
                <a:lnTo>
                  <a:pt x="0" y="18000"/>
                </a:lnTo>
                <a:arcTo wR="3600" hR="3600" stAng="16200000" swAng="5400000"/>
                <a:lnTo>
                  <a:pt x="131355" y="21600"/>
                </a:lnTo>
                <a:arcTo wR="3600" hR="3600" stAng="10800000" swAng="5400000"/>
                <a:lnTo>
                  <a:pt x="134955" y="3600"/>
                </a:lnTo>
                <a:arcTo wR="3600" hR="3600" stAng="5400000" swAng="5400000"/>
                <a:close/>
              </a:path>
            </a:pathLst>
          </a:custGeom>
          <a:solidFill>
            <a:srgbClr val="00ffff">
              <a:alpha val="50000"/>
            </a:srgbClr>
          </a:solidFill>
          <a:ln w="19080">
            <a:solidFill>
              <a:srgbClr val="000000"/>
            </a:solidFill>
            <a:prstDash val="dash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تعالى لا يغير ما بقوم من نعمة وأمن وعافية ورغد عيش فيزيلها عنهم ويذهبها منهم حتى يغيروا ما بأنفسهم من الإيمان إلى الكفر ،ومن الطاعة إلى المعصية ،ومن شكر النعمة إلى البطر بها،ومن العدل إلى الظلم ،وكذلك إذا غير العباد ما بأنفسهم من المعصية فانتقلوا إلى الطاعة غير الله عليهم ما كانوا من الشقاء إلى الخير والسرور والرح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تهاون كثير من المسلمين اليوم-مع الأسف-بالتمسك بدينهم،والاعتزاز به ،والدعوة إليه،فانحلت أخلاقهم،وشاعت بينهم الموبقات،ومالوا إلى الأهواء،وقلدوا غيرهم،فعاقبهم الله بأن غير حالهم فجعلهم ضعفاء بعد قوة،وأذلاء بعد عزة،وفقراء بعد غنى وتحكم فيهم أعداؤهم،وتسلطوا عليهم،ولا خلاص لهم إلا بالرجوع إلى دينهم، وأن يغيروا ما بأنفسهم حتى يغير الله حالهم إلى ما كانوا عليه من عزة وكرامة وقو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أراد الله بقوم سوءاً من مرض،أو فقر،أو عذب،أو نحوه من الأمور التي يكرها الناس وتقع بسبب ذنوبهم وبما كسبت أيديهم فإنه لا يستطيع أحد أن يدافع عنهم ولا يرد ما قدره الله لهم،فليحذرا الاستمرار على فعل ما يكرهه الله خشية أن يحل بهم من العقاب ما لا يستطيع أحدٌ ردَّهْ،فإنه لم ينزل إلا بذنب ولم يُرفع إلا بتوبة.</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خر الله البرق فيخاف منه بعض عباده كالمسافر ومن يخشى الصواعق والهدم أنواع الضرر على بعض الثمار ونموها ،ويطمع فيه من يرجو المطر لسقي زرعه والانتفاع بخيره،وهكذا حال كل شيء في الدنيا هو خير بالنظر إلى من يحتاج إليه في أوانه،وضد ذلك بالنظر إلى من يتضرر به بحسب مكانه وزمانه.</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دام أن الله سبحانه هو الذي يسوق السحب والأمطار للعباد التي فيها مادة أرزاقهم،وهو الذي يدبر الأمور وتخضع له</a:t>
            </a:r>
            <a:r>
              <a:rPr b="0" lang="ar-JO" sz="3200" spc="-1" strike="noStrike">
                <a:solidFill>
                  <a:srgbClr val="000000"/>
                </a:solidFill>
                <a:latin typeface="Times New Roman"/>
              </a:rPr>
              <a:t> جميع المخلوقات العظيمة التي يخافها وينزعج منها الهباد،وهو شديد القوة؛فهو سبحانه الذي يستحق أن يُعبد وحده لا شريك 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الله دعاء الكافرين لغير الله بالذي يبسط كفيه إلى الماء ليبلغ فاه،فهؤلاء الشركاء لا يستجيبون لهم بشيء مما يريدونه من تحصيل نفع أو إزالة ضر إلا كاستجابة الماء لمن بسط من بعيد ليبلغ فاه وهو عطشان فكما أن استجابة الماء أمر فكذلك استجابة هؤلاء الشركاء وهذا من أبلغ ما يكون في نفي الشيء.</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جميع من في السماوات والأرض خاضعون منقادون للذي خلقهم وفطرهم سبحانه و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17:34:44Z</dcterms:created>
  <dc:creator>cultural-office</dc:creator>
  <dc:description/>
  <dc:language>en-US</dc:language>
  <cp:lastModifiedBy>cultural-office</cp:lastModifiedBy>
  <dcterms:modified xsi:type="dcterms:W3CDTF">2008-01-19T12:07:19Z</dcterms:modified>
  <cp:revision>10</cp:revision>
  <dc:subject/>
  <dc:title>الدرس الثالث </dc:title>
</cp:coreProperties>
</file>